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1C933-C58D-4D3B-A7F4-14D5CFDA8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5E001-37DE-495A-B5AB-BA3F2F747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E1613-3071-4D81-8DE3-9147C7CC2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56EA8-F459-4B7E-9136-C90B9B873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15A40-A652-43F9-AA36-30F92F1B8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10CCF-45C7-4B82-B9AB-A1036060E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31CF2-53D2-4375-93F5-3470625F6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AC088-E6BF-4E09-A5FC-FD02FD019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D92C3-CC46-476F-8680-BF2EC56BD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8C9FE-88B7-479D-8375-A24656C18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A838D-1A59-48EE-B6EE-9BB8EED4F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5CE22-1277-452E-9E4F-D0F2911D6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3B90F7-A33F-4D00-9A3C-BB744B5C6BD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A436522-4725-4270-AD9F-9B674E2825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CT 333: Imagining the Audience in a Wired World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lass 10: Activity Theory, Prototyping and Evalu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y prototype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btaining feedback on redesig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suring concepts are correct before making major mistak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ssessing usability of redesign in pract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ening avenue for alternative options if requir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volving users and achieving buy-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w-fidelity protoyp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asily made, easily changed, easily destroy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eap materia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cuses on broad details of redesign vs. specific details (although core details of the redesign are represented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es not leave the user the impression that design is fi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-fi consider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obustness – often needs to be overengineered to encourage pla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cope – don’t sweat the minor or inconsequential details (e.g., aesthetic concerns aren’t a major issue here…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hould be usable as intended – if too many instructions are required, that’s no goo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notation – users should be able to offer comments on ele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SAE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rnell’s team – 2-3 low-fi prototypes built of wood, random materia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elps determine packaging, balance, ergonomics, but obviously not re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enefits – a well packaged car, no surprises in final design (which happens frequently.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gh-fidelity prototyp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specially common in electronic products and software, but also possible for other spac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 attention to detail, resembling final for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n probably be misconstrued as final produ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ennial be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is everything in social media/Web 2.0 “beta”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beta?  Alpha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otypes in use at IP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PS example – PICTIVE method used to develop low-fi software prototypes (paper, string, etc. to represent data flow in hands-on environmen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i-fi prototypes constructed from plans as proof of concept, returned to students for input and approv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AC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tri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n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you trying to prove in evaluatio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arly prototypes – general proof of concep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ater – more attention to detail, specific fea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ighting of requirements might be juggled as users engage prototyp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etric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ver measured, never managed” – managers really enjoy quantitative evidenc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hould be tied to evaluation of redesign, alternative future path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imit data at this point – summary information vs. raw data from resear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ctivity Theo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resents complexity of interaction among subjects, objects, artefacts and cultural expect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s a theory, can be hard to use in practice - but also quite powerfu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ffectiveness, Efficiency, Satisfa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ffectiveness – task completion, error rates reduced, memorabi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fficiency – time to task completion, reduction of steps, learning cur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atisfaction – general aesthetic impression and emotional feel, voluntary u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duct Lifecyc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 design is ever “done” – even when released, there’s often teams of people trying to figure out what’s nex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quirements weighting – sometimes you have to release something and make the rest version 2.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icrosoft’s model – prototype as product, eventually getting it righ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tire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lans for end-of-life important as well - some designs EOL better than othe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vironmental concerns – increasingly companies held accountable for disposal – exampl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pport for dead technologies – even if no longer sold, consumers expect some support – exampl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ext Week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r 22:  Test Review/Presentations of Final Redesigns in la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r 29:  Test (no lab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ne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Date Placeholder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Footer Placeholder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2"/>
          <p:cNvSpPr/>
          <p:nvPr/>
        </p:nvSpPr>
        <p:spPr>
          <a:xfrm>
            <a:off x="1371600" y="1600200"/>
            <a:ext cx="6629400" cy="4419720"/>
          </a:xfrm>
          <a:prstGeom prst="triangle">
            <a:avLst>
              <a:gd name="adj" fmla="val 5000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3"/>
          <p:cNvSpPr/>
          <p:nvPr/>
        </p:nvSpPr>
        <p:spPr>
          <a:xfrm>
            <a:off x="3048120" y="3809880"/>
            <a:ext cx="32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4"/>
          <p:cNvSpPr/>
          <p:nvPr/>
        </p:nvSpPr>
        <p:spPr>
          <a:xfrm>
            <a:off x="3048120" y="3809880"/>
            <a:ext cx="1752480" cy="2210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5"/>
          <p:cNvSpPr/>
          <p:nvPr/>
        </p:nvSpPr>
        <p:spPr>
          <a:xfrm flipV="1">
            <a:off x="4876920" y="3809520"/>
            <a:ext cx="1447560" cy="2210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4264560" y="106668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rtef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988200" y="3392640"/>
            <a:ext cx="86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ub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8"/>
          <p:cNvSpPr/>
          <p:nvPr/>
        </p:nvSpPr>
        <p:spPr>
          <a:xfrm>
            <a:off x="6901560" y="3392640"/>
            <a:ext cx="79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b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9"/>
          <p:cNvSpPr/>
          <p:nvPr/>
        </p:nvSpPr>
        <p:spPr>
          <a:xfrm>
            <a:off x="684720" y="6019920"/>
            <a:ext cx="72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ax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0"/>
          <p:cNvSpPr/>
          <p:nvPr/>
        </p:nvSpPr>
        <p:spPr>
          <a:xfrm>
            <a:off x="4194720" y="6095880"/>
            <a:ext cx="12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1"/>
          <p:cNvSpPr/>
          <p:nvPr/>
        </p:nvSpPr>
        <p:spPr>
          <a:xfrm>
            <a:off x="7770600" y="6035760"/>
            <a:ext cx="11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ivision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bo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des in Activity Triang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bject - peo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bject - goal, tas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rtefact - tools, technolog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munity - others affected by the activ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vision of Labour – the role of power relations in accomplishing tas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axis – norms/mores governing activ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tradic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imary - conflict at node (e.g., two subjects having different notion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ary - conflict between nodes (e.g., power relations interfering with successful formation of objec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ertiary - conflicts when activities are redesigned (e.g., change in model conflicts with old expectation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Quarternary - conflicts between simultaneous activities (e.g., one activity diagram contradicts anoth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: C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llaborative virtual environments - VR which embodies user in virtual spa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ffords interaction with other embodied users in real ti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Life as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ctivity Theory Analy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bjects - conference attende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bject - engage in collaboration, tal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tefacts - virtual conference environment, posters, websites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munity - attendees, lurk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vision of Labour - who is/is not allowed to talk at any given time, access restric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axis - expectations of conference environment, turn-taking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tradic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imary: coordinating individuals wishing to talk at the same tim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ary: establishing new relations of power in flattened hierarch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rtiary: old vs. new conference expectations (e.g., changes in praxi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Quarternary: issues in synchronous remote communication (e.g., what other things are attendees doing?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otyp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ood intermediate step before final design (or in this case, what you’ll be presenting in most case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asic functionality is represen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design goals are made functional, accessi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5T15:40:36Z</dcterms:created>
  <dc:creator>Sheridan College</dc:creator>
  <dc:description/>
  <dc:language>en-US</dc:language>
  <cp:lastModifiedBy>Sheridan College</cp:lastModifiedBy>
  <dcterms:modified xsi:type="dcterms:W3CDTF">2010-03-15T15:54:26Z</dcterms:modified>
  <cp:revision>8</cp:revision>
  <dc:subject/>
  <dc:title>Slide 1</dc:title>
</cp:coreProperties>
</file>